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png" ContentType="image/png"/>
  <Override PartName="/ppt/media/image7.jpeg" ContentType="image/jpeg"/>
  <Override PartName="/ppt/media/image13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gif" ContentType="image/gif"/>
  <Override PartName="/ppt/media/image12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9F1D-705A-44CA-B79E-B9F31F64D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6624-3E06-40AE-A532-880CD4CFE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F222-B3CB-4345-BE1C-35722DE80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0F61-9055-4A6A-98F3-9C3071049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6CEF-DED3-47FB-8998-41FA19680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E4AE-34C1-4759-AEBA-C56143B50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FB78-2889-404D-9D9E-6855CC841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0835-6256-4B6B-80E2-208164C09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B4AA-944D-4C56-8625-80BD3373E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F25E-34DF-451D-96A9-9E2A9867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5A5F-82FC-48A3-8E9A-850E2EF8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D769-B973-4E6E-96BB-D295B9CA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16DBB-F927-448B-B600-F8F124ACF8C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vilenski.org/science/safari/classifyall/eukaryotic.html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1200" y="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Kingdom Protist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2" name="Picture 5" descr="protist_diversity"/>
          <p:cNvPicPr/>
          <p:nvPr/>
        </p:nvPicPr>
        <p:blipFill>
          <a:blip r:embed="rId1"/>
          <a:stretch/>
        </p:blipFill>
        <p:spPr>
          <a:xfrm>
            <a:off x="1095480" y="1401840"/>
            <a:ext cx="6953040" cy="50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657360" y="385920"/>
            <a:ext cx="8229600" cy="61722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2"/>
          <p:cNvSpPr/>
          <p:nvPr/>
        </p:nvSpPr>
        <p:spPr>
          <a:xfrm>
            <a:off x="3600360" y="70488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2e45"/>
                </a:solidFill>
                <a:latin typeface="Times New Roman"/>
              </a:rPr>
              <a:t>EXAMPLE OF HOW PSEUDOPODS MO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2604960" y="538164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PUS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4691160" y="24145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FL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7153200" y="57340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DRA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290520" y="237960"/>
            <a:ext cx="853452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It can form 2 pseudopods to surround &amp; trap food.  Then form a food vacuole to break down food in the cytoplasm</a:t>
            </a: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rcRect l="25003" t="0" r="0" b="28574"/>
          <a:stretch/>
        </p:blipFill>
        <p:spPr>
          <a:xfrm>
            <a:off x="0" y="3338640"/>
            <a:ext cx="9144000" cy="3276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243080"/>
            <a:ext cx="822960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The smallest of the protozo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Flagellates (FLAJ-uh-lits) use their flagella to move, whip-like projections poking out of their cells, providing a back and forth movemen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Can have one or several long flagel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icellu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s characteristics of both plants and anim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TextBox 2"/>
          <p:cNvSpPr/>
          <p:nvPr/>
        </p:nvSpPr>
        <p:spPr>
          <a:xfrm>
            <a:off x="457200" y="228600"/>
            <a:ext cx="70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lagellu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"/>
          <p:cNvSpPr/>
          <p:nvPr/>
        </p:nvSpPr>
        <p:spPr>
          <a:xfrm>
            <a:off x="485640" y="1114560"/>
            <a:ext cx="83725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Move freely and feed on other organis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Makes its own food and also obtains nutrients by feeding as wel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Has an eyespot (to se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When an eyespot detects light it uses flagellum to move toward the light so that its chloroplast can carry out photosynthe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00600" y="258840"/>
            <a:ext cx="626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uglena (yoo-glee-nuh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5057640" y="533520"/>
            <a:ext cx="3515040" cy="5410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"/>
          <p:cNvPicPr/>
          <p:nvPr/>
        </p:nvPicPr>
        <p:blipFill>
          <a:blip r:embed="rId2"/>
          <a:stretch/>
        </p:blipFill>
        <p:spPr>
          <a:xfrm>
            <a:off x="0" y="3548160"/>
            <a:ext cx="4648320" cy="2438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"/>
          <p:cNvPicPr/>
          <p:nvPr/>
        </p:nvPicPr>
        <p:blipFill>
          <a:blip r:embed="rId3"/>
          <a:stretch/>
        </p:blipFill>
        <p:spPr>
          <a:xfrm>
            <a:off x="0" y="533520"/>
            <a:ext cx="4495680" cy="2438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71520" y="118548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Generally the largest protozo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Unicellular, slipper shap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Cilia – hair-like structures - help organisms move, get  food and sense environ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TextBox 2"/>
          <p:cNvSpPr/>
          <p:nvPr/>
        </p:nvSpPr>
        <p:spPr>
          <a:xfrm>
            <a:off x="2857680" y="243000"/>
            <a:ext cx="184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ili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"/>
          <p:cNvSpPr/>
          <p:nvPr/>
        </p:nvSpPr>
        <p:spPr>
          <a:xfrm>
            <a:off x="357120" y="798480"/>
            <a:ext cx="8444160" cy="54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00ccff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buClr>
                <a:srgbClr val="00ccff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Feeds with the help of a structure called an oral groove – where food is drawn in by external and internal cilia to form a food vacuol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buClr>
                <a:srgbClr val="00ccff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Will eat the other two types of protozoa as well as bacteri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buClr>
                <a:srgbClr val="00ccff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buClr>
                <a:srgbClr val="00ccff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Anal pore sends out was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buClr>
                <a:srgbClr val="00ccff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ccff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Aquatic  - common in ponds and slow moving strea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374760" y="201600"/>
            <a:ext cx="4111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arameciu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Loxodes"/>
          <p:cNvPicPr/>
          <p:nvPr/>
        </p:nvPicPr>
        <p:blipFill>
          <a:blip r:embed="rId1"/>
          <a:stretch/>
        </p:blipFill>
        <p:spPr>
          <a:xfrm>
            <a:off x="250920" y="1754280"/>
            <a:ext cx="2598480" cy="4214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3100320" y="385920"/>
            <a:ext cx="5815080" cy="628956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6"/>
          <p:cNvSpPr/>
          <p:nvPr/>
        </p:nvSpPr>
        <p:spPr>
          <a:xfrm>
            <a:off x="3282840" y="1414440"/>
            <a:ext cx="192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2a40"/>
                </a:solidFill>
                <a:latin typeface="Times New Roman"/>
              </a:rPr>
              <a:t>ORAL GROO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012680"/>
            <a:ext cx="8229600" cy="55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ff"/>
                </a:solidFill>
                <a:latin typeface="Tahoma"/>
              </a:rPr>
              <a:t>Algae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 are eukaryotic autotroph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They, along with other eukaryotic autotrophs, form the foundation of Earth’s food chai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They produce much of Earth’s oxyg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Found in ponds and ditches, and even in shallow rain pudd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1700280" y="127080"/>
            <a:ext cx="531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lant-like protist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4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4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195200"/>
            <a:ext cx="822960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icellular protists that has chloroplasts that can carry out photosynthe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es not live alo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ms groups called colon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wo small flagella that are used to move the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lls near the surface are specialized to move the entire colony through w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od source – makes its nutrients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1955880" y="168120"/>
            <a:ext cx="559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olvox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02840" y="317520"/>
            <a:ext cx="8372520" cy="203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If you look at a drop of pond water under a microscope, all the "little creatures" you see swimming around ar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66ffff"/>
                </a:solidFill>
                <a:latin typeface="Tahoma"/>
              </a:rPr>
              <a:t>protists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" name="Picture 4" descr="protista_anim"/>
          <p:cNvPicPr/>
          <p:nvPr/>
        </p:nvPicPr>
        <p:blipFill>
          <a:blip r:embed="rId1"/>
          <a:stretch/>
        </p:blipFill>
        <p:spPr>
          <a:xfrm>
            <a:off x="1951200" y="2060640"/>
            <a:ext cx="5371920" cy="4267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77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770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Icos-Nature-Volvox"/>
          <p:cNvPicPr/>
          <p:nvPr/>
        </p:nvPicPr>
        <p:blipFill>
          <a:blip r:embed="rId1"/>
          <a:stretch/>
        </p:blipFill>
        <p:spPr>
          <a:xfrm>
            <a:off x="701640" y="343080"/>
            <a:ext cx="7261200" cy="48481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7"/>
          <p:cNvSpPr/>
          <p:nvPr/>
        </p:nvSpPr>
        <p:spPr>
          <a:xfrm>
            <a:off x="206280" y="5152680"/>
            <a:ext cx="8656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A Volvox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 is a hollow boll  composed of hundreds of flagellated cells in a single laye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4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4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42800" y="600120"/>
            <a:ext cx="8428320" cy="26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All protists have a nucleus and are therefor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eukaryoti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Are either plant-like, animal-like or fungus-like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" name="Picture 5" descr="amoeba"/>
          <p:cNvPicPr/>
          <p:nvPr/>
        </p:nvPicPr>
        <p:blipFill>
          <a:blip r:embed="rId2"/>
          <a:stretch/>
        </p:blipFill>
        <p:spPr>
          <a:xfrm>
            <a:off x="3738600" y="3753000"/>
            <a:ext cx="2489040" cy="2350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Slime mold stalk and spore cap"/>
          <p:cNvPicPr/>
          <p:nvPr/>
        </p:nvPicPr>
        <p:blipFill>
          <a:blip r:embed="rId3"/>
          <a:stretch/>
        </p:blipFill>
        <p:spPr>
          <a:xfrm>
            <a:off x="6316560" y="3749760"/>
            <a:ext cx="2132280" cy="2732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Protist, Spirulina"/>
          <p:cNvPicPr/>
          <p:nvPr/>
        </p:nvPicPr>
        <p:blipFill>
          <a:blip r:embed="rId4"/>
          <a:stretch/>
        </p:blipFill>
        <p:spPr>
          <a:xfrm>
            <a:off x="254160" y="3906720"/>
            <a:ext cx="3389040" cy="254160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/>
          <p:cNvSpPr/>
          <p:nvPr/>
        </p:nvSpPr>
        <p:spPr>
          <a:xfrm>
            <a:off x="1343160" y="142920"/>
            <a:ext cx="6414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What is a Protist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Animal-like and fungus-like protists and are </a:t>
            </a:r>
            <a:r>
              <a:rPr b="0" lang="en-US" sz="3200" spc="-1" strike="noStrike">
                <a:solidFill>
                  <a:srgbClr val="c00000"/>
                </a:solidFill>
                <a:latin typeface="Tahoma"/>
              </a:rPr>
              <a:t>heterotrophs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. They are organisms that cannot make its own fo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Plant-like  protists are </a:t>
            </a:r>
            <a:r>
              <a:rPr b="0" lang="en-US" sz="3200" spc="-1" strike="noStrike">
                <a:solidFill>
                  <a:srgbClr val="c00000"/>
                </a:solidFill>
                <a:latin typeface="Tahoma"/>
              </a:rPr>
              <a:t>autotrophs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 – they contain chloroplasts and make their own foo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757080" y="557280"/>
            <a:ext cx="7315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Heterotrophs vs. Autotroph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4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4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21428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ff"/>
                </a:solidFill>
                <a:latin typeface="Tahoma"/>
              </a:rPr>
              <a:t>Protozoa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are animal-like protist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66ffff"/>
                </a:solidFill>
                <a:latin typeface="Tahoma"/>
              </a:rPr>
              <a:t>heterotrophs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grouped according to how they mov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The wor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66ffff"/>
                </a:solidFill>
                <a:latin typeface="Tahoma"/>
              </a:rPr>
              <a:t>protozo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means "little animal." They are so named because many species behave like tiny animals—specifically, they hunt and gather other microbes as food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1528920" y="385920"/>
            <a:ext cx="6886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Animal Like Protist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66640" y="334440"/>
            <a:ext cx="8229600" cy="605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All protozoa digest their food in stomach-like compartments called vacuoles</a:t>
            </a:r>
            <a:r>
              <a:rPr b="0" i="1" lang="en-US" sz="3200" spc="-1" strike="noStrike">
                <a:solidFill>
                  <a:srgbClr val="e5ffff"/>
                </a:solidFill>
                <a:latin typeface="Tahoma"/>
              </a:rPr>
              <a:t>.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  As they chow down, they make and give off nitrogen, which is an element that plants and other higher creatures can us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Protozoa can be classified into three general groups based on how they mov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2f2"/>
                </a:solidFill>
                <a:latin typeface="Tahoma"/>
              </a:rPr>
              <a:t>Pseudopo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2f2"/>
                </a:solidFill>
                <a:latin typeface="Tahoma"/>
              </a:rPr>
              <a:t>Flagell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2f2"/>
                </a:solidFill>
                <a:latin typeface="Tahoma"/>
              </a:rPr>
              <a:t>Cil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39560" y="13017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Pseudopods: or “false foot”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Cell membrane </a:t>
            </a:r>
            <a:r>
              <a:rPr b="0" lang="en-US" sz="3200" spc="-1" strike="noStrike">
                <a:solidFill>
                  <a:srgbClr val="c00000"/>
                </a:solidFill>
                <a:latin typeface="Tahoma"/>
              </a:rPr>
              <a:t>pushes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 in one direction &amp; the cytoplasm </a:t>
            </a:r>
            <a:r>
              <a:rPr b="0" lang="en-US" sz="3200" spc="-1" strike="noStrike">
                <a:solidFill>
                  <a:srgbClr val="c00000"/>
                </a:solidFill>
                <a:latin typeface="Tahoma"/>
              </a:rPr>
              <a:t>flows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 into the bulge.  This allows the protozoan to move, </a:t>
            </a:r>
            <a:r>
              <a:rPr b="0" lang="en-US" sz="3200" spc="-1" strike="noStrike">
                <a:solidFill>
                  <a:srgbClr val="c00000"/>
                </a:solidFill>
                <a:latin typeface="Tahoma"/>
              </a:rPr>
              <a:t>dragging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 the rest of the cell behind it engulfing food as they 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1257480" y="314280"/>
            <a:ext cx="68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seudopo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4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4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5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5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76440" y="-31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moebae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Aquatic – lives in ponds, ditches, or slowly moving stream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Just visible to the naked ey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Unicellul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Obtain nutrition by feeding on other animal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have a thin cell membrane but no cell wall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no definite shap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63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amoeba"/>
          <p:cNvPicPr/>
          <p:nvPr/>
        </p:nvPicPr>
        <p:blipFill>
          <a:blip r:embed="rId1"/>
          <a:stretch/>
        </p:blipFill>
        <p:spPr>
          <a:xfrm>
            <a:off x="171360" y="503280"/>
            <a:ext cx="4732560" cy="3122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4705200" y="2057400"/>
            <a:ext cx="4438800" cy="4800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3"/>
          <a:stretch/>
        </p:blipFill>
        <p:spPr>
          <a:xfrm>
            <a:off x="695160" y="3957480"/>
            <a:ext cx="3183120" cy="2362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30T22:25:27Z</dcterms:created>
  <dc:creator>Dennis Passovoy</dc:creator>
  <dc:description/>
  <dc:language>en-US</dc:language>
  <cp:lastModifiedBy>jcameron</cp:lastModifiedBy>
  <dcterms:modified xsi:type="dcterms:W3CDTF">2012-10-01T21:05:35Z</dcterms:modified>
  <cp:revision>79</cp:revision>
  <dc:subject/>
  <dc:title>Slide 1</dc:title>
</cp:coreProperties>
</file>